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7DD-1DA6-4E43-AC8A-5576D7B2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5E2-1813-43AD-A90B-EE13999A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2904-5FCE-4F27-B038-3090F940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D673-67FC-4E3C-88B2-AE50415C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EB1-01A4-4A39-80C7-CDCB87CE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48CA-1895-48D6-92A9-095F7C69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B1E-849A-4083-BE31-415CC76B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FB7-D36F-4275-8C44-56B208C6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2581-905A-40E0-A18C-70C2FBD8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336-AD9F-4441-BA1B-832BD669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7FA4-1756-42FA-8D6A-A5B24BE3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D2D6-4E65-438A-B873-DA0E4A4C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1366-B90E-4005-9BF8-56889523E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allpaperswide.com/thumbs/capybara_venezuela-t2.jpg&amp;imgrefurl=http://wallpaperswide.com/capybara_venezuela-wallpapers.html&amp;usg=__Kv-GQw0gRHhMqBN5vAKzzXJZsj8=&amp;h=350&amp;w=510&amp;sz=79&amp;hl=en&amp;start=18&amp;sig2=sdiSO5wm6cu6JK9YmfJvLw&amp;zoom=1&amp;tbnid=939-0B_eRoDR8M:&amp;tbnh=90&amp;tbnw=131&amp;ei=ckbdTt6bEcXb0QHlzNmrCQ&amp;prev=/search%3Fq%3Dcool%2Banimals%2Bin%2Bvenezuela%26um%3D1%26hl%3Den%26sa%3DN%26rlz%3D1T4ADSA_enUS394US394%26tbm%3Disch&amp;um=1&amp;itbs=1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google.com/imgres?imgurl=http://media.nowpublic.net/images//ef/f/effc749bc0bf4018474f4515b5a28749.jpg&amp;imgrefurl=http://www.nowpublic.com/strange/green-python&amp;usg=__gMdLv70W81CS-2fNBI_sWrMrkEg=&amp;h=476&amp;w=635&amp;sz=71&amp;hl=en&amp;start=57&amp;sig2=iIaDszcaMmzHesLJRxueUQ&amp;zoom=1&amp;tbnid=BbLmHJJ1xlC2iM:&amp;tbnh=103&amp;tbnw=137&amp;ei=tkbdTsSvBcXx0gH52ID9DQ&amp;prev=/search%3Fq%3Dcool%2Banimals%2Bin%2Bvenezuela%26start%3D42%26um%3D1%26hl%3Den%26sa%3DN%26rlz%3D1T4ADSA_enUS394US394%26tbm%3Disch&amp;um=1&amp;itbs=1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www.google.com/imgres?imgurl=http://biomeh.wikispaces.com/file/view/Dendrobates_yellow_3.jpg/33102251/Dendrobates_yellow_3.jpg&amp;imgrefurl=http://biomeh.wikispaces.com/Animals&amp;usg=__aiT85HH7qVuGbLxUJo6SBwWph5k=&amp;h=434&amp;w=600&amp;sz=226&amp;hl=en&amp;start=58&amp;sig2=9vLkchOfh7JWjEZx1YAOeA&amp;zoom=1&amp;tbnid=j6QDv9z3CRNY_M:&amp;tbnh=98&amp;tbnw=135&amp;ei=tkbdTsSvBcXx0gH52ID9DQ&amp;prev=/search%3Fq%3Dcool%2Banimals%2Bin%2Bvenezuela%26start%3D42%26um%3D1%26hl%3Den%26sa%3DN%26rlz%3D1T4ADSA_enUS394US394%26tbm%3Disch&amp;um=1&amp;itbs=1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www.google.com/imgres?imgurl=http://images.travelpod.com/users/prieststrip/1.1270678680.iguana.jpg&amp;imgrefurl=http://blog.travelpod.com/travel-blog-entries/prieststrip/1/1270678680/tpod.html&amp;usg=__iQSvRg00Z5YBBwCzzZMm6mrGsWQ=&amp;h=367&amp;w=550&amp;sz=134&amp;hl=en&amp;start=46&amp;sig2=JpBIlQhMinTS5qlNVqP-vg&amp;zoom=1&amp;tbnid=VeURbiyEU8M6zM:&amp;tbnh=89&amp;tbnw=133&amp;ei=tkbdTsSvBcXx0gH52ID9DQ&amp;prev=/search%3Fq%3Dcool%2Banimals%2Bin%2Bvenezuela%26start%3D42%26um%3D1%26hl%3Den%26sa%3DN%26rlz%3D1T4ADSA_enUS394US394%26tbm%3Disch&amp;um=1&amp;itbs=1" TargetMode="External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Franklin Gothic Heavy"/>
              </a:rPr>
              <a:t>Venezuel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: Owen Bea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Overhead of Yuruani Falls, Yuruani River."/>
          <p:cNvPicPr/>
          <p:nvPr/>
        </p:nvPicPr>
        <p:blipFill>
          <a:blip r:embed="rId1"/>
          <a:stretch/>
        </p:blipFill>
        <p:spPr>
          <a:xfrm>
            <a:off x="0" y="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Portrait of an Ocelot (Felis pardalis) at the Hato El Frio, a large cattle ranch in Los Llanos (The Plains)."/>
          <p:cNvPicPr/>
          <p:nvPr/>
        </p:nvPicPr>
        <p:blipFill>
          <a:blip r:embed="rId2"/>
          <a:stretch/>
        </p:blipFill>
        <p:spPr>
          <a:xfrm>
            <a:off x="0" y="335268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Brightly-painted boats on Playa Manzanillo.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00400" y="33526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</a:rPr>
              <a:t>Venezue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553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By : owen bea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00200" y="228600"/>
            <a:ext cx="601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524880" y="8015400"/>
            <a:ext cx="73915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1360" y="1484280"/>
            <a:ext cx="489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52388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447920"/>
            <a:ext cx="83055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Querido ma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ranklin Gothic Heavy"/>
              </a:rPr>
              <a:t>yo juegé en mi hotel. Es el hotel de Caracas. Es muy grande y mucho fantastico. </a:t>
            </a:r>
            <a:r>
              <a:rPr b="0" lang="es-ES" sz="2400" spc="-1" strike="noStrike">
                <a:solidFill>
                  <a:srgbClr val="000000"/>
                </a:solidFill>
                <a:latin typeface="Franklin Gothic Heavy"/>
              </a:rPr>
              <a:t>El servicio es muy agradable, y todos los trabajadores son amigables. Que está cerca del club de campo.el alberca es muy grande y el agua es muy clara.Mi dormitoio es no pequeño es el grande y muy luj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Franklin Gothic Heavy"/>
              </a:rPr>
              <a:t>Amor ,  O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4800600"/>
            <a:ext cx="3429000" cy="1795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62320" y="152280"/>
            <a:ext cx="35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99cc00"/>
                </a:solidFill>
                <a:uFillTx/>
                <a:latin typeface="Arial"/>
              </a:rPr>
              <a:t>Lu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62720" y="1447920"/>
            <a:ext cx="3352680" cy="2438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0200" y="30492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3300"/>
                </a:solidFill>
                <a:uFillTx/>
                <a:latin typeface="Arial"/>
              </a:rPr>
              <a:t>Mar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676520"/>
            <a:ext cx="4876920" cy="42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rido Elizabet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yo fei en una piscina. Es muy bien cuidado. Hay un mo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 de gente.fue muy divertido.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uego me fui al gimnasio. Había mucho equipo y me fui en la cinta. Tuve un primer día muy divert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ramente,  Ow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562720" y="4114800"/>
            <a:ext cx="33526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 u="sng">
                <a:solidFill>
                  <a:srgbClr val="0000ff"/>
                </a:solidFill>
                <a:uFillTx/>
                <a:latin typeface="Arial"/>
              </a:rPr>
              <a:t>Miérco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828800"/>
            <a:ext cx="76201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rido Pap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y yo fui a la capital de Venezuela. La capital es Caracas. Porque tuve hamb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í que fui a la tienda de pizza. La pizza fue muy bien. Había una gran cantidad de diferentes tipos de tienda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o yo no tenía tiempo suficiente para ir a todos ellos. Fui a algunas de ellas, aun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ceramente,   O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410080" y="4722840"/>
            <a:ext cx="37339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cc0099"/>
                </a:solidFill>
                <a:uFillTx/>
                <a:latin typeface="Arial"/>
              </a:rPr>
              <a:t>Jueves</a:t>
            </a: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rido Jac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casi mi últimodía en Venezuela. Me decidí a ir al centro comercial. Fue al Foot Locker. Y me compré un par de zapatos. El centro comercial fue también muy concurrida y es difícil de encontrar la tienda. Pero terminé encontrando. Continuación, después de treinta minutos en el estacionamiento Sal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ramente,  Su primo O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553080" y="480060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553080" y="2590920"/>
            <a:ext cx="2590920" cy="2133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553080" y="0"/>
            <a:ext cx="2590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cc9900"/>
                </a:solidFill>
                <a:uFillTx/>
                <a:latin typeface="Arial"/>
              </a:rPr>
              <a:t>Vier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Querido Abuel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Hoy es viernes, y también mi último día en Venezuela. A última cosa que yo no había hecho más que ir a la playa. Mientras yo estaba en la playa sólo había una persona que no. Que era la playa más hermosa que yo había estado nunca en. También fue 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gran día fuera. mis va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en Venezuela fue increí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Amor,    Ow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4419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65768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4648320"/>
            <a:ext cx="2667240" cy="2209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648320"/>
            <a:ext cx="2666880" cy="2209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3200400"/>
            <a:ext cx="2057400" cy="1228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6705720" y="3276720"/>
            <a:ext cx="2438280" cy="1199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3124080" y="3200400"/>
            <a:ext cx="2667240" cy="1357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8600" y="1447920"/>
            <a:ext cx="8763120" cy="12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WWW.Lonely Plane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WWW.Google Imag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49:02Z</dcterms:created>
  <dc:creator>bearerowe</dc:creator>
  <dc:description/>
  <dc:language>en-US</dc:language>
  <cp:lastModifiedBy>Michelle</cp:lastModifiedBy>
  <dcterms:modified xsi:type="dcterms:W3CDTF">2011-12-05T23:07:58Z</dcterms:modified>
  <cp:revision>8</cp:revision>
  <dc:subject/>
  <dc:title>Venezuela</dc:title>
</cp:coreProperties>
</file>